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7.wmf" ContentType="image/x-wmf"/>
  <Override PartName="/ppt/media/image12.png" ContentType="image/png"/>
  <Override PartName="/ppt/media/image19.wmf" ContentType="image/x-wmf"/>
  <Override PartName="/ppt/media/image18.wmf" ContentType="image/x-wmf"/>
  <Override PartName="/ppt/media/image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D64F-FB0D-4D4F-8A74-340296B7E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C5EC-3437-41A4-A844-8AF2329A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74D6-55CC-4C13-89DE-E3DCC5E33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FCBD-3D3B-421D-B907-DF7CA2144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B6AD-2A91-4ACA-B5D7-1942E5CF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DA0C-E422-4486-9F47-471EA1B4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B114-14BF-4E8B-931A-CA21605B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C6AA-3D06-495D-8EC6-FB0DC31E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15D8-D918-4A8B-9D52-16D7B363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55AC-D41B-4F3C-803D-A1B1CE13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F064-FAEF-4158-A9D3-00371377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1D8C-C5D2-4D92-96E8-BAFD2AF0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1ADE-92A6-4211-B672-F00135AD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DB2E-DE7D-494F-86F0-CE14E38E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1938-8FAD-40D4-90AD-E4AF210F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710A-70B4-451C-A645-384C1B6CB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7CDD-2FA2-43A6-AFA0-7E6BB1C52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997E-9E84-42AD-A718-2855DD37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5448-6F4C-4CFE-A4D3-831CC00E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2A09-7377-4E7C-A494-BD73D5F4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CADB-0FEC-4684-9BB2-AA980456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FCD5-1680-44ED-8CD4-646E26BE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7600-2174-447D-8F12-C26B877D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3584-CAAF-403C-945A-2DB478B3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cd8"/>
            </a:gs>
            <a:gs pos="100000">
              <a:srgbClr val="d8bc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3FD5-66AD-4608-96C6-697AE22E15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cd8"/>
            </a:gs>
            <a:gs pos="100000">
              <a:srgbClr val="d8bc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52F0-83C1-4577-9DB2-94A86D332E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00007071"/>
          <p:cNvPicPr/>
          <p:nvPr/>
        </p:nvPicPr>
        <p:blipFill>
          <a:blip r:embed="rId1"/>
          <a:stretch/>
        </p:blipFill>
        <p:spPr>
          <a:xfrm>
            <a:off x="5562720" y="2479680"/>
            <a:ext cx="2904840" cy="437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Picture 5" descr="00007011"/>
          <p:cNvPicPr/>
          <p:nvPr/>
        </p:nvPicPr>
        <p:blipFill>
          <a:blip r:embed="rId2"/>
          <a:stretch/>
        </p:blipFill>
        <p:spPr>
          <a:xfrm>
            <a:off x="380880" y="304920"/>
            <a:ext cx="266724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4" name="Picture 6" descr="00006953"/>
          <p:cNvPicPr/>
          <p:nvPr/>
        </p:nvPicPr>
        <p:blipFill>
          <a:blip r:embed="rId3"/>
          <a:stretch/>
        </p:blipFill>
        <p:spPr>
          <a:xfrm>
            <a:off x="3200400" y="74520"/>
            <a:ext cx="3124080" cy="25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5" name="Picture 7" descr="00006952"/>
          <p:cNvPicPr/>
          <p:nvPr/>
        </p:nvPicPr>
        <p:blipFill>
          <a:blip r:embed="rId4"/>
          <a:stretch/>
        </p:blipFill>
        <p:spPr>
          <a:xfrm>
            <a:off x="1981080" y="3787920"/>
            <a:ext cx="3505320" cy="276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345960" y="576360"/>
            <a:ext cx="8460000" cy="538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golub120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d3365a70f643"/>
          <p:cNvPicPr/>
          <p:nvPr/>
        </p:nvPicPr>
        <p:blipFill>
          <a:blip r:embed="rId2">
            <a:lum bright="18000"/>
          </a:blip>
          <a:srcRect l="3665" t="0" r="0" b="0"/>
          <a:stretch/>
        </p:blipFill>
        <p:spPr>
          <a:xfrm>
            <a:off x="1187280" y="2421000"/>
            <a:ext cx="1873440" cy="1709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d3365a70f643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6804000" y="476280"/>
            <a:ext cx="1871640" cy="16066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d3365a70f643"/>
          <p:cNvPicPr/>
          <p:nvPr/>
        </p:nvPicPr>
        <p:blipFill>
          <a:blip r:embed="rId4">
            <a:lum bright="18000"/>
          </a:blip>
          <a:srcRect l="3811" t="0" r="0" b="0"/>
          <a:stretch/>
        </p:blipFill>
        <p:spPr>
          <a:xfrm>
            <a:off x="539640" y="4797360"/>
            <a:ext cx="1800360" cy="16066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d3365a70f643"/>
          <p:cNvPicPr/>
          <p:nvPr/>
        </p:nvPicPr>
        <p:blipFill>
          <a:blip r:embed="rId5">
            <a:lum bright="18000"/>
          </a:blip>
          <a:srcRect l="3811" t="0" r="0" b="0"/>
          <a:stretch/>
        </p:blipFill>
        <p:spPr>
          <a:xfrm>
            <a:off x="395280" y="260280"/>
            <a:ext cx="1800360" cy="1606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d3365a70f643"/>
          <p:cNvPicPr/>
          <p:nvPr/>
        </p:nvPicPr>
        <p:blipFill>
          <a:blip r:embed="rId6">
            <a:lum bright="18000"/>
          </a:blip>
          <a:srcRect l="3908" t="0" r="0" b="0"/>
          <a:stretch/>
        </p:blipFill>
        <p:spPr>
          <a:xfrm>
            <a:off x="6732720" y="4869000"/>
            <a:ext cx="1798560" cy="16063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"/>
          <p:cNvPicPr/>
          <p:nvPr/>
        </p:nvPicPr>
        <p:blipFill>
          <a:blip r:embed="rId7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1 0.04325 L 0.33472 -0.23983 L 0.58681 0.04325 L 0.33472 0.32678 L 0.08281 0.04325 Z">
                                      <p:cBhvr>
                                        <p:cTn id="114" dur="5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2 0.04325 C 0.08282 -0.10985 0.17761 -0.23474 0.29393 -0.23474 C 0.41094 -0.23474 0.50591 -0.10985 0.50591 0.04325 C 0.50573 0.19611 0.4106 0.32123 0.29428 0.32123 C 0.17761 0.32123 0.08282 0.19611 0.08282 0.04325 Z">
                                      <p:cBhvr>
                                        <p:cTn id="117" dur="5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9" nodeType="afterEffect" fill="hold" presetClass="pat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673 -0.33449 C 0.20486 -0.33449 0.14566 -0.25857 0.14566 -0.16528 C 0.14566 -0.05579 0.21111 -0.01621 0.25069 0.00046 L 0.30278 0.01782 C 0.34219 0.03495 0.40781 0.07685 0.40781 0.20069 C 0.40781 0.28032 0.34861 0.3706 0.27673 0.3706 C 0.20486 0.3706 0.14566 0.28032 0.14566 0.20069 C 0.14566 0.07685 0.21128 0.03495 0.25069 0.01782 L 0.30278 0.00046 C 0.34219 -0.01621 0.40781 -0.05579 0.40781 -0.16528 C 0.40781 -0.25857 0.34861 -0.33449 0.27673 -0.33449 Z">
                                      <p:cBhvr>
                                        <p:cTn id="120" dur="5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2500"/>
                            </p:stCondLst>
                            <p:childTnLst>
                              <p:par>
                                <p:cTn id="1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3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500"/>
                            </p:stCondLst>
                            <p:childTnLst>
                              <p:par>
                                <p:cTn id="1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6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8500"/>
                            </p:stCondLst>
                            <p:childTnLst>
                              <p:par>
                                <p:cTn id="1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95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1500"/>
                            </p:stCondLst>
                            <p:childTnLst>
                              <p:par>
                                <p:cTn id="16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5"/>
          <p:cNvSpPr/>
          <p:nvPr/>
        </p:nvSpPr>
        <p:spPr>
          <a:xfrm>
            <a:off x="828720" y="2055960"/>
            <a:ext cx="7372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Построение графиков функций у=х</a:t>
            </a:r>
            <a:r>
              <a:rPr b="1" i="1" lang="ru-RU" sz="40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+5 и у=х</a:t>
            </a:r>
            <a:r>
              <a:rPr b="1" i="1" lang="ru-RU" sz="40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MCj03975260000[1]"/>
          <p:cNvPicPr/>
          <p:nvPr/>
        </p:nvPicPr>
        <p:blipFill>
          <a:blip r:embed="rId1"/>
          <a:stretch/>
        </p:blipFill>
        <p:spPr>
          <a:xfrm>
            <a:off x="5830920" y="3925800"/>
            <a:ext cx="3313080" cy="2932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MCj03967440000[1]"/>
          <p:cNvPicPr/>
          <p:nvPr/>
        </p:nvPicPr>
        <p:blipFill>
          <a:blip r:embed="rId2"/>
          <a:stretch/>
        </p:blipFill>
        <p:spPr>
          <a:xfrm>
            <a:off x="184320" y="4032360"/>
            <a:ext cx="2300040" cy="282564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2"/>
          <p:cNvSpPr/>
          <p:nvPr/>
        </p:nvSpPr>
        <p:spPr>
          <a:xfrm>
            <a:off x="2354400" y="25416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ройте  в одной координатной  плоск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рафики функц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25"/>
              <p:cNvSpPr txBox="1"/>
              <p:nvPr/>
            </p:nvSpPr>
            <p:spPr>
              <a:xfrm>
                <a:off x="487440" y="1243080"/>
                <a:ext cx="1592280" cy="27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  <m:e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6" name="Text Box 26"/>
          <p:cNvSpPr/>
          <p:nvPr/>
        </p:nvSpPr>
        <p:spPr>
          <a:xfrm>
            <a:off x="2701080" y="2666880"/>
            <a:ext cx="45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промежутк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4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 шагом 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0"/>
          <p:cNvSpPr/>
          <p:nvPr/>
        </p:nvSpPr>
        <p:spPr>
          <a:xfrm>
            <a:off x="11160" y="71280"/>
            <a:ext cx="231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4"/>
          <p:cNvPicPr/>
          <p:nvPr/>
        </p:nvPicPr>
        <p:blipFill>
          <a:blip r:embed="rId1"/>
          <a:stretch/>
        </p:blipFill>
        <p:spPr>
          <a:xfrm>
            <a:off x="938160" y="338040"/>
            <a:ext cx="7108920" cy="62215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golub120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d3365a70f643"/>
          <p:cNvPicPr/>
          <p:nvPr/>
        </p:nvPicPr>
        <p:blipFill>
          <a:blip r:embed="rId2">
            <a:lum bright="18000"/>
          </a:blip>
          <a:srcRect l="3665" t="0" r="0" b="0"/>
          <a:stretch/>
        </p:blipFill>
        <p:spPr>
          <a:xfrm>
            <a:off x="1187280" y="2421000"/>
            <a:ext cx="1873440" cy="1709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d3365a70f643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6804000" y="476280"/>
            <a:ext cx="1871640" cy="1606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d3365a70f643"/>
          <p:cNvPicPr/>
          <p:nvPr/>
        </p:nvPicPr>
        <p:blipFill>
          <a:blip r:embed="rId4">
            <a:lum bright="18000"/>
          </a:blip>
          <a:srcRect l="3811" t="0" r="0" b="0"/>
          <a:stretch/>
        </p:blipFill>
        <p:spPr>
          <a:xfrm>
            <a:off x="539640" y="4797360"/>
            <a:ext cx="1800360" cy="16066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d3365a70f643"/>
          <p:cNvPicPr/>
          <p:nvPr/>
        </p:nvPicPr>
        <p:blipFill>
          <a:blip r:embed="rId5">
            <a:lum bright="18000"/>
          </a:blip>
          <a:srcRect l="3811" t="0" r="0" b="0"/>
          <a:stretch/>
        </p:blipFill>
        <p:spPr>
          <a:xfrm>
            <a:off x="395280" y="260280"/>
            <a:ext cx="1800360" cy="16066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d3365a70f643"/>
          <p:cNvPicPr/>
          <p:nvPr/>
        </p:nvPicPr>
        <p:blipFill>
          <a:blip r:embed="rId6">
            <a:lum bright="18000"/>
          </a:blip>
          <a:srcRect l="3908" t="0" r="0" b="0"/>
          <a:stretch/>
        </p:blipFill>
        <p:spPr>
          <a:xfrm>
            <a:off x="6732720" y="4869000"/>
            <a:ext cx="1798560" cy="1606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"/>
          <p:cNvPicPr/>
          <p:nvPr/>
        </p:nvPicPr>
        <p:blipFill>
          <a:blip r:embed="rId7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0" nodeType="withEffect" fill="hold" presetClass="path" presetID="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1 0.04325 L 0.33472 -0.23983 L 0.58681 0.04325 L 0.33472 0.32678 L 0.08281 0.04325 Z">
                                      <p:cBhvr>
                                        <p:cTn id="181" dur="5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3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2 0.04325 C 0.08282 -0.10985 0.17761 -0.23474 0.29393 -0.23474 C 0.41094 -0.23474 0.50591 -0.10985 0.50591 0.04325 C 0.50573 0.19611 0.4106 0.32123 0.29428 0.32123 C 0.17761 0.32123 0.08282 0.19611 0.08282 0.04325 Z">
                                      <p:cBhvr>
                                        <p:cTn id="184" dur="5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6" nodeType="afterEffect" fill="hold" presetClass="pat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673 -0.33449 C 0.20486 -0.33449 0.14566 -0.25857 0.14566 -0.16528 C 0.14566 -0.05579 0.21111 -0.01621 0.25069 0.00046 L 0.30278 0.01782 C 0.34219 0.03495 0.40781 0.07685 0.40781 0.20069 C 0.40781 0.28032 0.34861 0.3706 0.27673 0.3706 C 0.20486 0.3706 0.14566 0.28032 0.14566 0.20069 C 0.14566 0.07685 0.21128 0.03495 0.25069 0.01782 L 0.30278 0.00046 C 0.34219 -0.01621 0.40781 -0.05579 0.40781 -0.16528 C 0.40781 -0.25857 0.34861 -0.33449 0.27673 -0.33449 Z">
                                      <p:cBhvr>
                                        <p:cTn id="187" dur="5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0"/>
                            </p:stCondLst>
                            <p:childTnLst>
                              <p:par>
                                <p:cTn id="1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2500"/>
                            </p:stCondLst>
                            <p:childTnLst>
                              <p:par>
                                <p:cTn id="1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35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5500"/>
                            </p:stCondLst>
                            <p:childTnLst>
                              <p:par>
                                <p:cTn id="2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65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8500"/>
                            </p:stCondLst>
                            <p:childTnLst>
                              <p:par>
                                <p:cTn id="2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9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1500"/>
                            </p:stCondLst>
                            <p:childTnLst>
                              <p:par>
                                <p:cTn id="2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870120" y="2139840"/>
            <a:ext cx="737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Построение графиков функций у=(х+1)</a:t>
            </a:r>
            <a:r>
              <a:rPr b="1" i="1" lang="ru-RU" sz="40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 и у=(х-2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i="1" lang="ru-RU" sz="40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7" name="Object 3"/>
              <p:cNvSpPr txBox="1"/>
              <p:nvPr/>
            </p:nvSpPr>
            <p:spPr>
              <a:xfrm>
                <a:off x="579600" y="879480"/>
                <a:ext cx="2106360" cy="30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08" name="Picture 4" descr="MCj03975260000[1]"/>
          <p:cNvPicPr/>
          <p:nvPr/>
        </p:nvPicPr>
        <p:blipFill>
          <a:blip r:embed="rId1"/>
          <a:stretch/>
        </p:blipFill>
        <p:spPr>
          <a:xfrm>
            <a:off x="5830920" y="3925800"/>
            <a:ext cx="3313080" cy="2932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MCj03967440000[1]"/>
          <p:cNvPicPr/>
          <p:nvPr/>
        </p:nvPicPr>
        <p:blipFill>
          <a:blip r:embed="rId2"/>
          <a:stretch/>
        </p:blipFill>
        <p:spPr>
          <a:xfrm>
            <a:off x="184320" y="4032360"/>
            <a:ext cx="2300040" cy="282564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6"/>
          <p:cNvSpPr/>
          <p:nvPr/>
        </p:nvSpPr>
        <p:spPr>
          <a:xfrm>
            <a:off x="2354400" y="25416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ройте  в одной координатной  плоск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рафики функц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2889720" y="2635200"/>
            <a:ext cx="44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промежутк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4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 шагом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720" y="71280"/>
            <a:ext cx="231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Задание 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9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6"/>
          <p:cNvPicPr/>
          <p:nvPr/>
        </p:nvPicPr>
        <p:blipFill>
          <a:blip r:embed="rId1"/>
          <a:stretch/>
        </p:blipFill>
        <p:spPr>
          <a:xfrm>
            <a:off x="254160" y="801720"/>
            <a:ext cx="8637480" cy="5092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golub120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d3365a70f643"/>
          <p:cNvPicPr/>
          <p:nvPr/>
        </p:nvPicPr>
        <p:blipFill>
          <a:blip r:embed="rId2">
            <a:lum bright="18000"/>
          </a:blip>
          <a:srcRect l="3665" t="0" r="0" b="0"/>
          <a:stretch/>
        </p:blipFill>
        <p:spPr>
          <a:xfrm>
            <a:off x="1187280" y="2421000"/>
            <a:ext cx="1873440" cy="1709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d3365a70f643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6804000" y="476280"/>
            <a:ext cx="1871640" cy="16066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d3365a70f643"/>
          <p:cNvPicPr/>
          <p:nvPr/>
        </p:nvPicPr>
        <p:blipFill>
          <a:blip r:embed="rId4">
            <a:lum bright="18000"/>
          </a:blip>
          <a:srcRect l="3811" t="0" r="0" b="0"/>
          <a:stretch/>
        </p:blipFill>
        <p:spPr>
          <a:xfrm>
            <a:off x="539640" y="4797360"/>
            <a:ext cx="1800360" cy="16066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d3365a70f643"/>
          <p:cNvPicPr/>
          <p:nvPr/>
        </p:nvPicPr>
        <p:blipFill>
          <a:blip r:embed="rId5">
            <a:lum bright="18000"/>
          </a:blip>
          <a:srcRect l="3811" t="0" r="0" b="0"/>
          <a:stretch/>
        </p:blipFill>
        <p:spPr>
          <a:xfrm>
            <a:off x="395280" y="260280"/>
            <a:ext cx="1800360" cy="1606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d3365a70f643"/>
          <p:cNvPicPr/>
          <p:nvPr/>
        </p:nvPicPr>
        <p:blipFill>
          <a:blip r:embed="rId6">
            <a:lum bright="18000"/>
          </a:blip>
          <a:srcRect l="3908" t="0" r="0" b="0"/>
          <a:stretch/>
        </p:blipFill>
        <p:spPr>
          <a:xfrm>
            <a:off x="6732720" y="4869000"/>
            <a:ext cx="1798560" cy="16063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"/>
          <p:cNvPicPr/>
          <p:nvPr/>
        </p:nvPicPr>
        <p:blipFill>
          <a:blip r:embed="rId7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1 0.04325 L 0.33472 -0.23983 L 0.58681 0.04325 L 0.33472 0.32678 L 0.08281 0.04325 Z">
                                      <p:cBhvr>
                                        <p:cTn id="249" dur="5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1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2 0.04325 C 0.08282 -0.10985 0.17761 -0.23474 0.29393 -0.23474 C 0.41094 -0.23474 0.50591 -0.10985 0.50591 0.04325 C 0.50573 0.19611 0.4106 0.32123 0.29428 0.32123 C 0.17761 0.32123 0.08282 0.19611 0.08282 0.04325 Z">
                                      <p:cBhvr>
                                        <p:cTn id="252" dur="5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4" nodeType="afterEffect" fill="hold" presetClass="pat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673 -0.33449 C 0.20486 -0.33449 0.14566 -0.25857 0.14566 -0.16528 C 0.14566 -0.05579 0.21111 -0.01621 0.25069 0.00046 L 0.30278 0.01782 C 0.34219 0.03495 0.40781 0.07685 0.40781 0.20069 C 0.40781 0.28032 0.34861 0.3706 0.27673 0.3706 C 0.20486 0.3706 0.14566 0.28032 0.14566 0.20069 C 0.14566 0.07685 0.21128 0.03495 0.25069 0.01782 L 0.30278 0.00046 C 0.34219 -0.01621 0.40781 -0.05579 0.40781 -0.16528 C 0.40781 -0.25857 0.34861 -0.33449 0.27673 -0.33449 Z">
                                      <p:cBhvr>
                                        <p:cTn id="255" dur="5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000"/>
                            </p:stCondLst>
                            <p:childTnLst>
                              <p:par>
                                <p:cTn id="2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5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2500"/>
                            </p:stCondLst>
                            <p:childTnLst>
                              <p:par>
                                <p:cTn id="2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35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5500"/>
                            </p:stCondLst>
                            <p:childTnLst>
                              <p:par>
                                <p:cTn id="2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6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8500"/>
                            </p:stCondLst>
                            <p:childTnLst>
                              <p:par>
                                <p:cTn id="2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95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1500"/>
                            </p:stCondLst>
                            <p:childTnLst>
                              <p:par>
                                <p:cTn id="2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01480" y="149688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«Я слышу – я забываю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Я вижу – я запоминаю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Я делаю – я понимаю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Китайская послов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50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900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325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0" y="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ак, используя график функции  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у = х </a:t>
            </a:r>
            <a:r>
              <a:rPr b="1" i="1" lang="ru-RU" sz="36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строить график функции 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у = х </a:t>
            </a:r>
            <a:r>
              <a:rPr b="1" i="1" lang="ru-RU" sz="36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-7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3"/>
          <p:cNvSpPr/>
          <p:nvPr/>
        </p:nvSpPr>
        <p:spPr>
          <a:xfrm flipH="1" flipV="1">
            <a:off x="2615760" y="1138320"/>
            <a:ext cx="58680" cy="5719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"/>
          <p:cNvSpPr/>
          <p:nvPr/>
        </p:nvSpPr>
        <p:spPr>
          <a:xfrm>
            <a:off x="514440" y="4206960"/>
            <a:ext cx="6408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rc 5"/>
          <p:cNvSpPr/>
          <p:nvPr/>
        </p:nvSpPr>
        <p:spPr>
          <a:xfrm flipV="1">
            <a:off x="1971720" y="1687680"/>
            <a:ext cx="1420920" cy="2519280"/>
          </a:xfrm>
          <a:custGeom>
            <a:avLst/>
            <a:gdLst>
              <a:gd name="textAreaLeft" fmla="*/ 0 w 1420920"/>
              <a:gd name="textAreaRight" fmla="*/ 1421280 w 1420920"/>
              <a:gd name="textAreaTop" fmla="*/ 360 h 2519280"/>
              <a:gd name="textAreaBottom" fmla="*/ 2520000 h 2519280"/>
            </a:gdLst>
            <a:ahLst/>
            <a:rect l="textAreaLeft" t="textAreaTop" r="textAreaRight" b="textAreaBottom"/>
            <a:pathLst>
              <a:path fill="none" w="43199" h="21600">
                <a:moveTo>
                  <a:pt x="-1" y="21430"/>
                </a:moveTo>
                <a:cubicBezTo>
                  <a:pt x="92" y="9567"/>
                  <a:pt x="9735" y="-1"/>
                  <a:pt x="21599" y="0"/>
                </a:cubicBezTo>
                <a:cubicBezTo>
                  <a:pt x="33528" y="0"/>
                  <a:pt x="43199" y="9670"/>
                  <a:pt x="43199" y="21600"/>
                </a:cubicBezTo>
              </a:path>
              <a:path stroke="0" w="43199" h="21600">
                <a:moveTo>
                  <a:pt x="-1" y="21430"/>
                </a:moveTo>
                <a:cubicBezTo>
                  <a:pt x="92" y="9567"/>
                  <a:pt x="9735" y="-1"/>
                  <a:pt x="21599" y="0"/>
                </a:cubicBezTo>
                <a:cubicBezTo>
                  <a:pt x="33528" y="0"/>
                  <a:pt x="43199" y="9670"/>
                  <a:pt x="43199" y="21600"/>
                </a:cubicBezTo>
                <a:lnTo>
                  <a:pt x="21599" y="2160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2314440" y="42084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707160" y="42069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097000" y="10098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9"/>
          <p:cNvGrpSpPr/>
          <p:nvPr/>
        </p:nvGrpSpPr>
        <p:grpSpPr>
          <a:xfrm>
            <a:off x="2660760" y="4209840"/>
            <a:ext cx="574200" cy="2160360"/>
            <a:chOff x="2660760" y="4209840"/>
            <a:chExt cx="574200" cy="2160360"/>
          </a:xfrm>
        </p:grpSpPr>
        <p:sp>
          <p:nvSpPr>
            <p:cNvPr id="229" name="Line 10"/>
            <p:cNvSpPr/>
            <p:nvPr/>
          </p:nvSpPr>
          <p:spPr>
            <a:xfrm flipV="1">
              <a:off x="2660760" y="4209840"/>
              <a:ext cx="0" cy="216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1"/>
            <p:cNvSpPr/>
            <p:nvPr/>
          </p:nvSpPr>
          <p:spPr>
            <a:xfrm>
              <a:off x="2732040" y="48574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Line 12"/>
          <p:cNvSpPr/>
          <p:nvPr/>
        </p:nvSpPr>
        <p:spPr>
          <a:xfrm>
            <a:off x="2514600" y="39038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3"/>
          <p:cNvSpPr/>
          <p:nvPr/>
        </p:nvSpPr>
        <p:spPr>
          <a:xfrm>
            <a:off x="2227320" y="373212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2817720" y="437184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5"/>
          <p:cNvSpPr/>
          <p:nvPr/>
        </p:nvSpPr>
        <p:spPr>
          <a:xfrm>
            <a:off x="2976480" y="4064040"/>
            <a:ext cx="0" cy="24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6"/>
          <p:cNvSpPr/>
          <p:nvPr/>
        </p:nvSpPr>
        <p:spPr>
          <a:xfrm>
            <a:off x="2252520" y="63151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7"/>
          <p:cNvSpPr/>
          <p:nvPr/>
        </p:nvSpPr>
        <p:spPr>
          <a:xfrm>
            <a:off x="2527200" y="632628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0.00208 L -0.00313 0.3059 E">
                                      <p:cBhvr>
                                        <p:cTn id="305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0" y="-13176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ак, используя график функции 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у = х </a:t>
            </a:r>
            <a:r>
              <a:rPr b="1" i="1" lang="ru-RU" sz="36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строить график функции 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у = х </a:t>
            </a:r>
            <a:r>
              <a:rPr b="1" i="1" lang="ru-RU" sz="36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+10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"/>
          <p:cNvSpPr/>
          <p:nvPr/>
        </p:nvSpPr>
        <p:spPr>
          <a:xfrm flipH="1" flipV="1">
            <a:off x="2644560" y="907560"/>
            <a:ext cx="14040" cy="5769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"/>
          <p:cNvSpPr/>
          <p:nvPr/>
        </p:nvSpPr>
        <p:spPr>
          <a:xfrm>
            <a:off x="498600" y="6311880"/>
            <a:ext cx="6408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rc 5"/>
          <p:cNvSpPr/>
          <p:nvPr/>
        </p:nvSpPr>
        <p:spPr>
          <a:xfrm flipV="1">
            <a:off x="1955880" y="3792600"/>
            <a:ext cx="1420560" cy="2519280"/>
          </a:xfrm>
          <a:custGeom>
            <a:avLst/>
            <a:gdLst>
              <a:gd name="textAreaLeft" fmla="*/ 0 w 1420560"/>
              <a:gd name="textAreaRight" fmla="*/ 1420920 w 1420560"/>
              <a:gd name="textAreaTop" fmla="*/ 360 h 2519280"/>
              <a:gd name="textAreaBottom" fmla="*/ 2520000 h 2519280"/>
            </a:gdLst>
            <a:ahLst/>
            <a:rect l="textAreaLeft" t="textAreaTop" r="textAreaRight" b="textAreaBottom"/>
            <a:pathLst>
              <a:path fill="none" w="43199" h="21600">
                <a:moveTo>
                  <a:pt x="-1" y="21430"/>
                </a:moveTo>
                <a:cubicBezTo>
                  <a:pt x="92" y="9567"/>
                  <a:pt x="9735" y="-1"/>
                  <a:pt x="21599" y="0"/>
                </a:cubicBezTo>
                <a:cubicBezTo>
                  <a:pt x="33528" y="0"/>
                  <a:pt x="43199" y="9670"/>
                  <a:pt x="43199" y="21600"/>
                </a:cubicBezTo>
              </a:path>
              <a:path stroke="0" w="43199" h="21600">
                <a:moveTo>
                  <a:pt x="-1" y="21430"/>
                </a:moveTo>
                <a:cubicBezTo>
                  <a:pt x="92" y="9567"/>
                  <a:pt x="9735" y="-1"/>
                  <a:pt x="21599" y="0"/>
                </a:cubicBezTo>
                <a:cubicBezTo>
                  <a:pt x="33528" y="0"/>
                  <a:pt x="43199" y="9670"/>
                  <a:pt x="43199" y="21600"/>
                </a:cubicBezTo>
                <a:lnTo>
                  <a:pt x="21599" y="2160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2298600" y="63133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2009880" y="31100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6691320" y="63118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2225520" y="9064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0"/>
          <p:cNvSpPr/>
          <p:nvPr/>
        </p:nvSpPr>
        <p:spPr>
          <a:xfrm>
            <a:off x="2486160" y="32529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11"/>
          <p:cNvGrpSpPr/>
          <p:nvPr/>
        </p:nvGrpSpPr>
        <p:grpSpPr>
          <a:xfrm>
            <a:off x="2644920" y="3266640"/>
            <a:ext cx="574200" cy="3045960"/>
            <a:chOff x="2644920" y="3266640"/>
            <a:chExt cx="574200" cy="3045960"/>
          </a:xfrm>
        </p:grpSpPr>
        <p:sp>
          <p:nvSpPr>
            <p:cNvPr id="247" name="Line 12"/>
            <p:cNvSpPr/>
            <p:nvPr/>
          </p:nvSpPr>
          <p:spPr>
            <a:xfrm flipV="1">
              <a:off x="2644920" y="3266640"/>
              <a:ext cx="0" cy="3045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3"/>
            <p:cNvSpPr/>
            <p:nvPr/>
          </p:nvSpPr>
          <p:spPr>
            <a:xfrm>
              <a:off x="2716200" y="41799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Line 14"/>
          <p:cNvSpPr/>
          <p:nvPr/>
        </p:nvSpPr>
        <p:spPr>
          <a:xfrm>
            <a:off x="2498760" y="60087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2211480" y="583740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2746440" y="649116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7"/>
          <p:cNvSpPr/>
          <p:nvPr/>
        </p:nvSpPr>
        <p:spPr>
          <a:xfrm>
            <a:off x="2960640" y="6168960"/>
            <a:ext cx="0" cy="24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54335E-006 L 1.38889E-006 -0.44901 E">
                                      <p:cBhvr>
                                        <p:cTn id="324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0" y="1890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ак, используя график функции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у = х </a:t>
            </a:r>
            <a:r>
              <a:rPr b="1" i="1" lang="ru-RU" sz="36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36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строить график функции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у = (х-5) </a:t>
            </a:r>
            <a:r>
              <a:rPr b="1" i="1" lang="ru-RU" sz="36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"/>
          <p:cNvSpPr/>
          <p:nvPr/>
        </p:nvSpPr>
        <p:spPr>
          <a:xfrm flipV="1">
            <a:off x="2352600" y="1628280"/>
            <a:ext cx="0" cy="446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4"/>
          <p:cNvSpPr/>
          <p:nvPr/>
        </p:nvSpPr>
        <p:spPr>
          <a:xfrm>
            <a:off x="192240" y="5084640"/>
            <a:ext cx="6408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rc 5"/>
          <p:cNvSpPr/>
          <p:nvPr/>
        </p:nvSpPr>
        <p:spPr>
          <a:xfrm flipV="1">
            <a:off x="1344600" y="2565360"/>
            <a:ext cx="2016000" cy="2519280"/>
          </a:xfrm>
          <a:custGeom>
            <a:avLst/>
            <a:gdLst>
              <a:gd name="textAreaLeft" fmla="*/ 0 w 2016000"/>
              <a:gd name="textAreaRight" fmla="*/ 2016360 w 2016000"/>
              <a:gd name="textAreaTop" fmla="*/ 360 h 2519280"/>
              <a:gd name="textAreaBottom" fmla="*/ 2520000 h 2519280"/>
            </a:gdLst>
            <a:ahLst/>
            <a:rect l="textAreaLeft" t="textAreaTop" r="textAreaRight" b="textAreaBottom"/>
            <a:pathLst>
              <a:path fill="none" w="43199" h="21600">
                <a:moveTo>
                  <a:pt x="-1" y="21430"/>
                </a:moveTo>
                <a:cubicBezTo>
                  <a:pt x="92" y="9567"/>
                  <a:pt x="9735" y="-1"/>
                  <a:pt x="21599" y="0"/>
                </a:cubicBezTo>
                <a:cubicBezTo>
                  <a:pt x="33528" y="0"/>
                  <a:pt x="43199" y="9670"/>
                  <a:pt x="43199" y="21600"/>
                </a:cubicBezTo>
              </a:path>
              <a:path stroke="0" w="43199" h="21600">
                <a:moveTo>
                  <a:pt x="-1" y="21430"/>
                </a:moveTo>
                <a:cubicBezTo>
                  <a:pt x="92" y="9567"/>
                  <a:pt x="9735" y="-1"/>
                  <a:pt x="21599" y="0"/>
                </a:cubicBezTo>
                <a:cubicBezTo>
                  <a:pt x="33528" y="0"/>
                  <a:pt x="43199" y="9670"/>
                  <a:pt x="43199" y="21600"/>
                </a:cubicBezTo>
                <a:lnTo>
                  <a:pt x="21599" y="2160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2063880" y="51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7"/>
          <p:cNvSpPr/>
          <p:nvPr/>
        </p:nvSpPr>
        <p:spPr>
          <a:xfrm>
            <a:off x="3871800" y="501336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3672000" y="5129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9"/>
          <p:cNvGrpSpPr/>
          <p:nvPr/>
        </p:nvGrpSpPr>
        <p:grpSpPr>
          <a:xfrm>
            <a:off x="2352600" y="5081760"/>
            <a:ext cx="1535040" cy="441000"/>
            <a:chOff x="2352600" y="5081760"/>
            <a:chExt cx="1535040" cy="441000"/>
          </a:xfrm>
        </p:grpSpPr>
        <p:sp>
          <p:nvSpPr>
            <p:cNvPr id="261" name="Line 10"/>
            <p:cNvSpPr/>
            <p:nvPr/>
          </p:nvSpPr>
          <p:spPr>
            <a:xfrm>
              <a:off x="2352600" y="5081760"/>
              <a:ext cx="1535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1"/>
            <p:cNvSpPr/>
            <p:nvPr/>
          </p:nvSpPr>
          <p:spPr>
            <a:xfrm>
              <a:off x="2966400" y="5154480"/>
              <a:ext cx="25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12"/>
          <p:cNvSpPr/>
          <p:nvPr/>
        </p:nvSpPr>
        <p:spPr>
          <a:xfrm>
            <a:off x="6384960" y="5084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1919160" y="155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4"/>
          <p:cNvSpPr/>
          <p:nvPr/>
        </p:nvSpPr>
        <p:spPr>
          <a:xfrm>
            <a:off x="2655720" y="4992840"/>
            <a:ext cx="0" cy="188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5"/>
          <p:cNvSpPr/>
          <p:nvPr/>
        </p:nvSpPr>
        <p:spPr>
          <a:xfrm>
            <a:off x="2249640" y="4789440"/>
            <a:ext cx="231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2500200" y="522936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1947960" y="459108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21965E-006 L 0.16459 -4.21965E-006 E">
                                      <p:cBhvr>
                                        <p:cTn id="343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5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0" y="1890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ак, используя график функции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у = х </a:t>
            </a:r>
            <a:r>
              <a:rPr b="1" i="1" lang="ru-RU" sz="36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36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строить график функции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у = (х+6) </a:t>
            </a:r>
            <a:r>
              <a:rPr b="1" i="1" lang="ru-RU" sz="36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"/>
          <p:cNvSpPr/>
          <p:nvPr/>
        </p:nvSpPr>
        <p:spPr>
          <a:xfrm flipV="1">
            <a:off x="5095800" y="1657440"/>
            <a:ext cx="0" cy="446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"/>
          <p:cNvSpPr/>
          <p:nvPr/>
        </p:nvSpPr>
        <p:spPr>
          <a:xfrm flipV="1">
            <a:off x="1366920" y="5099040"/>
            <a:ext cx="5900760" cy="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rc 5"/>
          <p:cNvSpPr/>
          <p:nvPr/>
        </p:nvSpPr>
        <p:spPr>
          <a:xfrm flipV="1">
            <a:off x="4087800" y="2593080"/>
            <a:ext cx="2016000" cy="2519640"/>
          </a:xfrm>
          <a:custGeom>
            <a:avLst/>
            <a:gdLst>
              <a:gd name="textAreaLeft" fmla="*/ 0 w 2016000"/>
              <a:gd name="textAreaRight" fmla="*/ 2016360 w 2016000"/>
              <a:gd name="textAreaTop" fmla="*/ -360 h 2519640"/>
              <a:gd name="textAreaBottom" fmla="*/ 2519640 h 2519640"/>
            </a:gdLst>
            <a:ahLst/>
            <a:rect l="textAreaLeft" t="textAreaTop" r="textAreaRight" b="textAreaBottom"/>
            <a:pathLst>
              <a:path fill="none" w="43199" h="21600">
                <a:moveTo>
                  <a:pt x="-1" y="21430"/>
                </a:moveTo>
                <a:cubicBezTo>
                  <a:pt x="92" y="9567"/>
                  <a:pt x="9735" y="-1"/>
                  <a:pt x="21599" y="0"/>
                </a:cubicBezTo>
                <a:cubicBezTo>
                  <a:pt x="33528" y="0"/>
                  <a:pt x="43199" y="9670"/>
                  <a:pt x="43199" y="21600"/>
                </a:cubicBezTo>
              </a:path>
              <a:path stroke="0" w="43199" h="21600">
                <a:moveTo>
                  <a:pt x="-1" y="21430"/>
                </a:moveTo>
                <a:cubicBezTo>
                  <a:pt x="92" y="9567"/>
                  <a:pt x="9735" y="-1"/>
                  <a:pt x="21599" y="0"/>
                </a:cubicBezTo>
                <a:cubicBezTo>
                  <a:pt x="33528" y="0"/>
                  <a:pt x="43199" y="9670"/>
                  <a:pt x="43199" y="21600"/>
                </a:cubicBezTo>
                <a:lnTo>
                  <a:pt x="21599" y="2160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4807080" y="51865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7"/>
          <p:cNvSpPr/>
          <p:nvPr/>
        </p:nvSpPr>
        <p:spPr>
          <a:xfrm>
            <a:off x="3262320" y="5013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3005280" y="5172120"/>
            <a:ext cx="4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9"/>
          <p:cNvGrpSpPr/>
          <p:nvPr/>
        </p:nvGrpSpPr>
        <p:grpSpPr>
          <a:xfrm>
            <a:off x="3281400" y="5095800"/>
            <a:ext cx="1825560" cy="443520"/>
            <a:chOff x="3281400" y="5095800"/>
            <a:chExt cx="1825560" cy="443520"/>
          </a:xfrm>
        </p:grpSpPr>
        <p:sp>
          <p:nvSpPr>
            <p:cNvPr id="277" name="Line 10"/>
            <p:cNvSpPr/>
            <p:nvPr/>
          </p:nvSpPr>
          <p:spPr>
            <a:xfrm>
              <a:off x="3281400" y="5095800"/>
              <a:ext cx="1825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1"/>
            <p:cNvSpPr/>
            <p:nvPr/>
          </p:nvSpPr>
          <p:spPr>
            <a:xfrm>
              <a:off x="4011480" y="517104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12"/>
          <p:cNvSpPr/>
          <p:nvPr/>
        </p:nvSpPr>
        <p:spPr>
          <a:xfrm>
            <a:off x="6950160" y="5157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4662360" y="15858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4"/>
          <p:cNvSpPr/>
          <p:nvPr/>
        </p:nvSpPr>
        <p:spPr>
          <a:xfrm>
            <a:off x="5398920" y="5021280"/>
            <a:ext cx="0" cy="189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5"/>
          <p:cNvSpPr/>
          <p:nvPr/>
        </p:nvSpPr>
        <p:spPr>
          <a:xfrm>
            <a:off x="4992840" y="4818240"/>
            <a:ext cx="231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5243400" y="525780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4691160" y="461952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93064E-006 L -0.20208 3.93064E-006 E">
                                      <p:cBhvr>
                                        <p:cTn id="362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500"/>
                            </p:stCondLst>
                            <p:childTnLst>
                              <p:par>
                                <p:cTn id="374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0" y="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ак, используя график функции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у = х </a:t>
            </a:r>
            <a:r>
              <a:rPr b="1" i="1" lang="ru-RU" sz="36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36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строить график функции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у=(х-4)</a:t>
            </a:r>
            <a:r>
              <a:rPr b="1" i="1" lang="ru-RU" sz="36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+7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3"/>
          <p:cNvSpPr/>
          <p:nvPr/>
        </p:nvSpPr>
        <p:spPr>
          <a:xfrm flipH="1" flipV="1">
            <a:off x="2644560" y="1125000"/>
            <a:ext cx="14040" cy="5551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4"/>
          <p:cNvSpPr/>
          <p:nvPr/>
        </p:nvSpPr>
        <p:spPr>
          <a:xfrm>
            <a:off x="498600" y="6311880"/>
            <a:ext cx="6408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rc 5"/>
          <p:cNvSpPr/>
          <p:nvPr/>
        </p:nvSpPr>
        <p:spPr>
          <a:xfrm flipV="1">
            <a:off x="1955880" y="3792600"/>
            <a:ext cx="1420560" cy="2519280"/>
          </a:xfrm>
          <a:custGeom>
            <a:avLst/>
            <a:gdLst>
              <a:gd name="textAreaLeft" fmla="*/ 0 w 1420560"/>
              <a:gd name="textAreaRight" fmla="*/ 1420920 w 1420560"/>
              <a:gd name="textAreaTop" fmla="*/ 360 h 2519280"/>
              <a:gd name="textAreaBottom" fmla="*/ 2520000 h 2519280"/>
            </a:gdLst>
            <a:ahLst/>
            <a:rect l="textAreaLeft" t="textAreaTop" r="textAreaRight" b="textAreaBottom"/>
            <a:pathLst>
              <a:path fill="none" w="43199" h="21600">
                <a:moveTo>
                  <a:pt x="-1" y="21430"/>
                </a:moveTo>
                <a:cubicBezTo>
                  <a:pt x="92" y="9567"/>
                  <a:pt x="9735" y="-1"/>
                  <a:pt x="21599" y="0"/>
                </a:cubicBezTo>
                <a:cubicBezTo>
                  <a:pt x="33528" y="0"/>
                  <a:pt x="43199" y="9670"/>
                  <a:pt x="43199" y="21600"/>
                </a:cubicBezTo>
              </a:path>
              <a:path stroke="0" w="43199" h="21600">
                <a:moveTo>
                  <a:pt x="-1" y="21430"/>
                </a:moveTo>
                <a:cubicBezTo>
                  <a:pt x="92" y="9567"/>
                  <a:pt x="9735" y="-1"/>
                  <a:pt x="21599" y="0"/>
                </a:cubicBezTo>
                <a:cubicBezTo>
                  <a:pt x="33528" y="0"/>
                  <a:pt x="43199" y="9670"/>
                  <a:pt x="43199" y="21600"/>
                </a:cubicBezTo>
                <a:lnTo>
                  <a:pt x="21599" y="2160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2298600" y="63133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168640" y="40100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6691320" y="63118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9"/>
          <p:cNvSpPr/>
          <p:nvPr/>
        </p:nvSpPr>
        <p:spPr>
          <a:xfrm>
            <a:off x="2225520" y="10368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0"/>
          <p:cNvSpPr/>
          <p:nvPr/>
        </p:nvSpPr>
        <p:spPr>
          <a:xfrm>
            <a:off x="2486160" y="41814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11"/>
          <p:cNvGrpSpPr/>
          <p:nvPr/>
        </p:nvGrpSpPr>
        <p:grpSpPr>
          <a:xfrm>
            <a:off x="3863880" y="4167000"/>
            <a:ext cx="574920" cy="2145960"/>
            <a:chOff x="3863880" y="4167000"/>
            <a:chExt cx="574920" cy="2145960"/>
          </a:xfrm>
        </p:grpSpPr>
        <p:sp>
          <p:nvSpPr>
            <p:cNvPr id="295" name="Line 12"/>
            <p:cNvSpPr/>
            <p:nvPr/>
          </p:nvSpPr>
          <p:spPr>
            <a:xfrm flipV="1">
              <a:off x="3863880" y="4167000"/>
              <a:ext cx="0" cy="2145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13"/>
            <p:cNvSpPr/>
            <p:nvPr/>
          </p:nvSpPr>
          <p:spPr>
            <a:xfrm>
              <a:off x="3935520" y="48103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Line 14"/>
          <p:cNvSpPr/>
          <p:nvPr/>
        </p:nvSpPr>
        <p:spPr>
          <a:xfrm>
            <a:off x="2498760" y="60087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2211480" y="583740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2746440" y="649116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7"/>
          <p:cNvSpPr/>
          <p:nvPr/>
        </p:nvSpPr>
        <p:spPr>
          <a:xfrm>
            <a:off x="2960640" y="6168960"/>
            <a:ext cx="0" cy="24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8"/>
          <p:cNvSpPr/>
          <p:nvPr/>
        </p:nvSpPr>
        <p:spPr>
          <a:xfrm>
            <a:off x="3873600" y="6181560"/>
            <a:ext cx="0" cy="24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3645000" y="649116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0"/>
          <p:cNvGrpSpPr/>
          <p:nvPr/>
        </p:nvGrpSpPr>
        <p:grpSpPr>
          <a:xfrm>
            <a:off x="2700360" y="6318360"/>
            <a:ext cx="1201680" cy="441000"/>
            <a:chOff x="2700360" y="6318360"/>
            <a:chExt cx="1201680" cy="441000"/>
          </a:xfrm>
        </p:grpSpPr>
        <p:sp>
          <p:nvSpPr>
            <p:cNvPr id="304" name="Line 21"/>
            <p:cNvSpPr/>
            <p:nvPr/>
          </p:nvSpPr>
          <p:spPr>
            <a:xfrm>
              <a:off x="2700360" y="6318360"/>
              <a:ext cx="12016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22"/>
            <p:cNvSpPr/>
            <p:nvPr/>
          </p:nvSpPr>
          <p:spPr>
            <a:xfrm>
              <a:off x="3180960" y="6391080"/>
              <a:ext cx="20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0.00208 L 0.13264 -3.46821E-006 E">
                                      <p:cBhvr>
                                        <p:cTn id="381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264 -2.54335E-006 L 0.13264 -0.30936 E">
                                      <p:cBhvr>
                                        <p:cTn id="398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56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ергей Львович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болев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кадемик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908-19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атель Института математик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бирского Отделения Российской Академии На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4" descr="sport"/>
          <p:cNvPicPr/>
          <p:nvPr/>
        </p:nvPicPr>
        <p:blipFill>
          <a:blip r:embed="rId1"/>
          <a:stretch/>
        </p:blipFill>
        <p:spPr>
          <a:xfrm>
            <a:off x="6156360" y="476280"/>
            <a:ext cx="251280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208080" y="956880"/>
            <a:ext cx="4752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гей Львович Соболев - один из крупнейших математиков XX века, внесший основополагающий вклад в развитие современной математики. Им созданы новые разделы математики, введены важные понятия, разработаны мощные методы исследования, решен ряд крупных, давно стоявших пробле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.Л.Соболев сыграл важнейшую роль в формировании крупнейших математических школ в нашей стране и за рубежом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тановлении и развитии новых направлений прикладно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матики, имеющих важное государственное зна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s11"/>
          <p:cNvPicPr/>
          <p:nvPr/>
        </p:nvPicPr>
        <p:blipFill>
          <a:blip r:embed="rId1"/>
          <a:stretch/>
        </p:blipFill>
        <p:spPr>
          <a:xfrm>
            <a:off x="5435640" y="404640"/>
            <a:ext cx="299088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5" descr="sdos"/>
          <p:cNvPicPr/>
          <p:nvPr/>
        </p:nvPicPr>
        <p:blipFill>
          <a:blip r:embed="rId1"/>
          <a:stretch/>
        </p:blipFill>
        <p:spPr>
          <a:xfrm>
            <a:off x="2916360" y="1844640"/>
            <a:ext cx="2857320" cy="397836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дагогическая дея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284040" y="23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99"/>
                </a:solidFill>
                <a:uFillTx/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3" descr="MCj03974740000[1]"/>
          <p:cNvPicPr/>
          <p:nvPr/>
        </p:nvPicPr>
        <p:blipFill>
          <a:blip r:embed="rId1"/>
          <a:stretch/>
        </p:blipFill>
        <p:spPr>
          <a:xfrm>
            <a:off x="5886360" y="5140440"/>
            <a:ext cx="1841760" cy="14461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MCj03974900000[1]"/>
          <p:cNvPicPr/>
          <p:nvPr/>
        </p:nvPicPr>
        <p:blipFill>
          <a:blip r:embed="rId2"/>
          <a:stretch/>
        </p:blipFill>
        <p:spPr>
          <a:xfrm>
            <a:off x="252360" y="5445000"/>
            <a:ext cx="2259000" cy="120996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5"/>
          <p:cNvGrpSpPr/>
          <p:nvPr/>
        </p:nvGrpSpPr>
        <p:grpSpPr>
          <a:xfrm>
            <a:off x="6114960" y="5057280"/>
            <a:ext cx="1541520" cy="1800360"/>
            <a:chOff x="6114960" y="5057280"/>
            <a:chExt cx="1541520" cy="1800360"/>
          </a:xfrm>
        </p:grpSpPr>
        <p:sp>
          <p:nvSpPr>
            <p:cNvPr id="317" name="Line 6"/>
            <p:cNvSpPr/>
            <p:nvPr/>
          </p:nvSpPr>
          <p:spPr>
            <a:xfrm>
              <a:off x="6114960" y="5193360"/>
              <a:ext cx="1541520" cy="1485360"/>
            </a:xfrm>
            <a:prstGeom prst="line">
              <a:avLst/>
            </a:prstGeom>
            <a:ln w="54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7"/>
            <p:cNvSpPr/>
            <p:nvPr/>
          </p:nvSpPr>
          <p:spPr>
            <a:xfrm flipV="1">
              <a:off x="6226560" y="5057280"/>
              <a:ext cx="1429920" cy="1800360"/>
            </a:xfrm>
            <a:prstGeom prst="line">
              <a:avLst/>
            </a:prstGeom>
            <a:ln w="54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Text Box 8"/>
          <p:cNvSpPr/>
          <p:nvPr/>
        </p:nvSpPr>
        <p:spPr>
          <a:xfrm>
            <a:off x="-279720" y="938160"/>
            <a:ext cx="8878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стройте  в одной координатной плоскости графики функции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</a:t>
            </a:r>
            <a:r>
              <a:rPr b="1" lang="ru-RU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+ 8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+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</a:t>
            </a:r>
            <a:r>
              <a:rPr b="1" lang="ru-RU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= –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**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ru-RU" sz="24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+ 6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x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+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ройте в программ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электронные таблицы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фики функц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</a:t>
            </a:r>
            <a:r>
              <a:rPr b="1" lang="ru-RU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</a:t>
            </a:r>
            <a:r>
              <a:rPr b="1" lang="ru-RU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=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x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– 3)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             на отрезке [-10; 10] с шагом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</a:t>
            </a:r>
            <a:r>
              <a:rPr b="1" lang="ru-RU" sz="24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–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***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стройте в программ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электронные таблицы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фик функции (на новом листе) 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=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ru-RU" sz="24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.  (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ласть определения выберите самостоятель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1050840" y="1700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MCj03967420000[1]"/>
          <p:cNvPicPr/>
          <p:nvPr/>
        </p:nvPicPr>
        <p:blipFill>
          <a:blip r:embed="rId1"/>
          <a:stretch/>
        </p:blipFill>
        <p:spPr>
          <a:xfrm>
            <a:off x="6391440" y="5014800"/>
            <a:ext cx="1643040" cy="1843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MCj03967440000[1]"/>
          <p:cNvPicPr/>
          <p:nvPr/>
        </p:nvPicPr>
        <p:blipFill>
          <a:blip r:embed="rId2"/>
          <a:stretch/>
        </p:blipFill>
        <p:spPr>
          <a:xfrm>
            <a:off x="900000" y="5030640"/>
            <a:ext cx="1487520" cy="1827360"/>
          </a:xfrm>
          <a:prstGeom prst="rect">
            <a:avLst/>
          </a:prstGeom>
          <a:ln w="0">
            <a:noFill/>
          </a:ln>
        </p:spPr>
      </p:pic>
      <p:sp>
        <p:nvSpPr>
          <p:cNvPr id="89" name="WordArt 11"/>
          <p:cNvSpPr txBox="1"/>
          <p:nvPr/>
        </p:nvSpPr>
        <p:spPr>
          <a:xfrm>
            <a:off x="879480" y="1311120"/>
            <a:ext cx="7527960" cy="289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d2d8a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строение и преобразование </a:t>
            </a:r>
            <a:endParaRPr b="0" lang="en-US" sz="1800" spc="1" strike="noStrike">
              <a:ln w="0">
                <a:noFill/>
              </a:ln>
              <a:solidFill>
                <a:srgbClr val="2d2d8a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d2d8a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графиков </a:t>
            </a:r>
            <a:endParaRPr b="0" lang="en-US" sz="1800" spc="1" strike="noStrike">
              <a:ln w="0">
                <a:noFill/>
              </a:ln>
              <a:solidFill>
                <a:srgbClr val="2d2d8a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d2d8a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вадратичной функции в среде</a:t>
            </a:r>
            <a:endParaRPr b="0" lang="en-US" sz="1800" spc="1" strike="noStrike">
              <a:ln w="0">
                <a:noFill/>
              </a:ln>
              <a:solidFill>
                <a:srgbClr val="2d2d8a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d2d8a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Microsoft Excel </a:t>
            </a:r>
            <a:endParaRPr b="0" lang="en-US" sz="1800" spc="1" strike="noStrike">
              <a:ln w="0">
                <a:noFill/>
              </a:ln>
              <a:solidFill>
                <a:srgbClr val="2d2d8a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720" y="0"/>
            <a:ext cx="231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Задание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rc 41"/>
          <p:cNvSpPr/>
          <p:nvPr/>
        </p:nvSpPr>
        <p:spPr>
          <a:xfrm flipV="1" rot="10800000">
            <a:off x="1946160" y="3607200"/>
            <a:ext cx="1470240" cy="3544920"/>
          </a:xfrm>
          <a:custGeom>
            <a:avLst/>
            <a:gdLst>
              <a:gd name="textAreaLeft" fmla="*/ 0 w 1470240"/>
              <a:gd name="textAreaRight" fmla="*/ 1470600 w 1470240"/>
              <a:gd name="textAreaTop" fmla="*/ -360 h 3544920"/>
              <a:gd name="textAreaBottom" fmla="*/ 3544920 h 3544920"/>
            </a:gdLst>
            <a:ahLst/>
            <a:rect l="textAreaLeft" t="textAreaTop" r="textAreaRight" b="textAreaBottom"/>
            <a:pathLst>
              <a:path fill="none" w="39886" h="21600">
                <a:moveTo>
                  <a:pt x="0" y="15286"/>
                </a:moveTo>
                <a:cubicBezTo>
                  <a:pt x="2776" y="6203"/>
                  <a:pt x="11159" y="-1"/>
                  <a:pt x="20657" y="0"/>
                </a:cubicBezTo>
                <a:cubicBezTo>
                  <a:pt x="28765" y="0"/>
                  <a:pt x="36191" y="4541"/>
                  <a:pt x="39885" y="11760"/>
                </a:cubicBezTo>
              </a:path>
              <a:path stroke="0" w="39886" h="21600">
                <a:moveTo>
                  <a:pt x="0" y="15286"/>
                </a:moveTo>
                <a:cubicBezTo>
                  <a:pt x="2776" y="6203"/>
                  <a:pt x="11159" y="-1"/>
                  <a:pt x="20657" y="0"/>
                </a:cubicBezTo>
                <a:cubicBezTo>
                  <a:pt x="28765" y="0"/>
                  <a:pt x="36191" y="4541"/>
                  <a:pt x="39885" y="11760"/>
                </a:cubicBezTo>
                <a:lnTo>
                  <a:pt x="20657" y="21600"/>
                </a:lnTo>
                <a:close/>
              </a:path>
            </a:pathLst>
          </a:custGeom>
          <a:noFill/>
          <a:ln w="316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2"/>
          <p:cNvSpPr/>
          <p:nvPr/>
        </p:nvSpPr>
        <p:spPr>
          <a:xfrm>
            <a:off x="3497400" y="2351160"/>
            <a:ext cx="1458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3"/>
          <p:cNvSpPr/>
          <p:nvPr/>
        </p:nvSpPr>
        <p:spPr>
          <a:xfrm>
            <a:off x="3654720" y="217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5"/>
          <p:cNvSpPr/>
          <p:nvPr/>
        </p:nvSpPr>
        <p:spPr>
          <a:xfrm>
            <a:off x="2286000" y="356076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6"/>
          <p:cNvSpPr/>
          <p:nvPr/>
        </p:nvSpPr>
        <p:spPr>
          <a:xfrm>
            <a:off x="3506760" y="4192560"/>
            <a:ext cx="135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7"/>
          <p:cNvSpPr/>
          <p:nvPr/>
        </p:nvSpPr>
        <p:spPr>
          <a:xfrm>
            <a:off x="3683160" y="40165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8"/>
          <p:cNvSpPr/>
          <p:nvPr/>
        </p:nvSpPr>
        <p:spPr>
          <a:xfrm>
            <a:off x="4802040" y="3497400"/>
            <a:ext cx="11160" cy="139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9"/>
          <p:cNvSpPr/>
          <p:nvPr/>
        </p:nvSpPr>
        <p:spPr>
          <a:xfrm>
            <a:off x="4086360" y="356544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0"/>
          <p:cNvSpPr/>
          <p:nvPr/>
        </p:nvSpPr>
        <p:spPr>
          <a:xfrm>
            <a:off x="6556320" y="1343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7"/>
          <p:cNvSpPr/>
          <p:nvPr/>
        </p:nvSpPr>
        <p:spPr>
          <a:xfrm>
            <a:off x="2185920" y="139680"/>
            <a:ext cx="593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ff"/>
                </a:solidFill>
                <a:uFillTx/>
                <a:latin typeface="Arial"/>
              </a:rPr>
              <a:t>Укажите графики квадратичных функ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8"/>
          <p:cNvSpPr/>
          <p:nvPr/>
        </p:nvSpPr>
        <p:spPr>
          <a:xfrm>
            <a:off x="1770120" y="1967040"/>
            <a:ext cx="336600" cy="326880"/>
          </a:xfrm>
          <a:prstGeom prst="cloudCallout">
            <a:avLst>
              <a:gd name="adj1" fmla="val 29717"/>
              <a:gd name="adj2" fmla="val 12718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9"/>
          <p:cNvSpPr/>
          <p:nvPr/>
        </p:nvSpPr>
        <p:spPr>
          <a:xfrm>
            <a:off x="1627200" y="3944880"/>
            <a:ext cx="336600" cy="327240"/>
          </a:xfrm>
          <a:prstGeom prst="cloudCallout">
            <a:avLst>
              <a:gd name="adj1" fmla="val 101416"/>
              <a:gd name="adj2" fmla="val 12669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60"/>
          <p:cNvSpPr/>
          <p:nvPr/>
        </p:nvSpPr>
        <p:spPr>
          <a:xfrm>
            <a:off x="3143160" y="1066680"/>
            <a:ext cx="336600" cy="327240"/>
          </a:xfrm>
          <a:prstGeom prst="cloudCallout">
            <a:avLst>
              <a:gd name="adj1" fmla="val -37263"/>
              <a:gd name="adj2" fmla="val 26262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1"/>
          <p:cNvSpPr/>
          <p:nvPr/>
        </p:nvSpPr>
        <p:spPr>
          <a:xfrm rot="6006600">
            <a:off x="4624200" y="2763720"/>
            <a:ext cx="336600" cy="326880"/>
          </a:xfrm>
          <a:prstGeom prst="cloudCallout">
            <a:avLst>
              <a:gd name="adj1" fmla="val -11791"/>
              <a:gd name="adj2" fmla="val -11407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2"/>
          <p:cNvSpPr/>
          <p:nvPr/>
        </p:nvSpPr>
        <p:spPr>
          <a:xfrm>
            <a:off x="1824120" y="1933560"/>
            <a:ext cx="2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3"/>
          <p:cNvSpPr/>
          <p:nvPr/>
        </p:nvSpPr>
        <p:spPr>
          <a:xfrm>
            <a:off x="4624560" y="2717640"/>
            <a:ext cx="2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4"/>
          <p:cNvSpPr/>
          <p:nvPr/>
        </p:nvSpPr>
        <p:spPr>
          <a:xfrm>
            <a:off x="3154320" y="1031760"/>
            <a:ext cx="2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5"/>
          <p:cNvSpPr/>
          <p:nvPr/>
        </p:nvSpPr>
        <p:spPr>
          <a:xfrm>
            <a:off x="1647720" y="3922560"/>
            <a:ext cx="2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98"/>
          <p:cNvSpPr/>
          <p:nvPr/>
        </p:nvSpPr>
        <p:spPr>
          <a:xfrm rot="16033200">
            <a:off x="4066200" y="5604120"/>
            <a:ext cx="430200" cy="378000"/>
          </a:xfrm>
          <a:prstGeom prst="cloudCallout">
            <a:avLst>
              <a:gd name="adj1" fmla="val 84810"/>
              <a:gd name="adj2" fmla="val -6907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01"/>
          <p:cNvSpPr/>
          <p:nvPr/>
        </p:nvSpPr>
        <p:spPr>
          <a:xfrm>
            <a:off x="4191120" y="3484440"/>
            <a:ext cx="0" cy="128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2"/>
          <p:cNvSpPr/>
          <p:nvPr/>
        </p:nvSpPr>
        <p:spPr>
          <a:xfrm>
            <a:off x="4662720" y="358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rc 104"/>
          <p:cNvSpPr/>
          <p:nvPr/>
        </p:nvSpPr>
        <p:spPr>
          <a:xfrm flipV="1">
            <a:off x="3079800" y="0"/>
            <a:ext cx="968400" cy="3573360"/>
          </a:xfrm>
          <a:custGeom>
            <a:avLst/>
            <a:gdLst>
              <a:gd name="textAreaLeft" fmla="*/ 0 w 968400"/>
              <a:gd name="textAreaRight" fmla="*/ 968760 w 968400"/>
              <a:gd name="textAreaTop" fmla="*/ 360 h 3573360"/>
              <a:gd name="textAreaBottom" fmla="*/ 3574080 h 3573360"/>
            </a:gdLst>
            <a:ahLst/>
            <a:rect l="textAreaLeft" t="textAreaTop" r="textAreaRight" b="textAreaBottom"/>
            <a:pathLst>
              <a:path fill="none" w="39886" h="21600">
                <a:moveTo>
                  <a:pt x="0" y="15286"/>
                </a:moveTo>
                <a:cubicBezTo>
                  <a:pt x="2776" y="6203"/>
                  <a:pt x="11159" y="-1"/>
                  <a:pt x="20657" y="0"/>
                </a:cubicBezTo>
                <a:cubicBezTo>
                  <a:pt x="28765" y="0"/>
                  <a:pt x="36191" y="4541"/>
                  <a:pt x="39885" y="11760"/>
                </a:cubicBezTo>
              </a:path>
              <a:path stroke="0" w="39886" h="21600">
                <a:moveTo>
                  <a:pt x="0" y="15286"/>
                </a:moveTo>
                <a:cubicBezTo>
                  <a:pt x="2776" y="6203"/>
                  <a:pt x="11159" y="-1"/>
                  <a:pt x="20657" y="0"/>
                </a:cubicBezTo>
                <a:cubicBezTo>
                  <a:pt x="28765" y="0"/>
                  <a:pt x="36191" y="4541"/>
                  <a:pt x="39885" y="11760"/>
                </a:cubicBezTo>
                <a:lnTo>
                  <a:pt x="20657" y="21600"/>
                </a:lnTo>
                <a:close/>
              </a:path>
            </a:pathLst>
          </a:custGeom>
          <a:noFill/>
          <a:ln w="316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rc 105"/>
          <p:cNvSpPr/>
          <p:nvPr/>
        </p:nvSpPr>
        <p:spPr>
          <a:xfrm flipV="1">
            <a:off x="2819520" y="2191680"/>
            <a:ext cx="1469880" cy="3544920"/>
          </a:xfrm>
          <a:custGeom>
            <a:avLst/>
            <a:gdLst>
              <a:gd name="textAreaLeft" fmla="*/ 0 w 1469880"/>
              <a:gd name="textAreaRight" fmla="*/ 1470240 w 1469880"/>
              <a:gd name="textAreaTop" fmla="*/ -360 h 3544920"/>
              <a:gd name="textAreaBottom" fmla="*/ 3544920 h 3544920"/>
            </a:gdLst>
            <a:ahLst/>
            <a:rect l="textAreaLeft" t="textAreaTop" r="textAreaRight" b="textAreaBottom"/>
            <a:pathLst>
              <a:path fill="none" w="39886" h="21600">
                <a:moveTo>
                  <a:pt x="0" y="15286"/>
                </a:moveTo>
                <a:cubicBezTo>
                  <a:pt x="2776" y="6203"/>
                  <a:pt x="11159" y="-1"/>
                  <a:pt x="20657" y="0"/>
                </a:cubicBezTo>
                <a:cubicBezTo>
                  <a:pt x="28765" y="0"/>
                  <a:pt x="36191" y="4541"/>
                  <a:pt x="39885" y="11760"/>
                </a:cubicBezTo>
              </a:path>
              <a:path stroke="0" w="39886" h="21600">
                <a:moveTo>
                  <a:pt x="0" y="15286"/>
                </a:moveTo>
                <a:cubicBezTo>
                  <a:pt x="2776" y="6203"/>
                  <a:pt x="11159" y="-1"/>
                  <a:pt x="20657" y="0"/>
                </a:cubicBezTo>
                <a:cubicBezTo>
                  <a:pt x="28765" y="0"/>
                  <a:pt x="36191" y="4541"/>
                  <a:pt x="39885" y="11760"/>
                </a:cubicBezTo>
                <a:lnTo>
                  <a:pt x="20657" y="21600"/>
                </a:ln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31"/>
          <p:cNvGrpSpPr/>
          <p:nvPr/>
        </p:nvGrpSpPr>
        <p:grpSpPr>
          <a:xfrm>
            <a:off x="268200" y="415800"/>
            <a:ext cx="6480360" cy="5903640"/>
            <a:chOff x="268200" y="415800"/>
            <a:chExt cx="6480360" cy="5903640"/>
          </a:xfrm>
        </p:grpSpPr>
        <p:sp>
          <p:nvSpPr>
            <p:cNvPr id="115" name="Line 32"/>
            <p:cNvSpPr/>
            <p:nvPr/>
          </p:nvSpPr>
          <p:spPr>
            <a:xfrm flipV="1">
              <a:off x="3579840" y="487080"/>
              <a:ext cx="0" cy="58323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3"/>
            <p:cNvSpPr/>
            <p:nvPr/>
          </p:nvSpPr>
          <p:spPr>
            <a:xfrm>
              <a:off x="268200" y="3584520"/>
              <a:ext cx="648036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34"/>
            <p:cNvSpPr/>
            <p:nvPr/>
          </p:nvSpPr>
          <p:spPr>
            <a:xfrm>
              <a:off x="6389640" y="36561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35"/>
            <p:cNvSpPr/>
            <p:nvPr/>
          </p:nvSpPr>
          <p:spPr>
            <a:xfrm>
              <a:off x="3654360" y="415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36"/>
            <p:cNvSpPr/>
            <p:nvPr/>
          </p:nvSpPr>
          <p:spPr>
            <a:xfrm>
              <a:off x="3149280" y="35845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7"/>
            <p:cNvSpPr/>
            <p:nvPr/>
          </p:nvSpPr>
          <p:spPr>
            <a:xfrm>
              <a:off x="3868920" y="3511440"/>
              <a:ext cx="0" cy="14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8"/>
            <p:cNvSpPr/>
            <p:nvPr/>
          </p:nvSpPr>
          <p:spPr>
            <a:xfrm flipH="1">
              <a:off x="3508560" y="3295800"/>
              <a:ext cx="14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39"/>
            <p:cNvSpPr/>
            <p:nvPr/>
          </p:nvSpPr>
          <p:spPr>
            <a:xfrm>
              <a:off x="3726360" y="3727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40"/>
            <p:cNvSpPr/>
            <p:nvPr/>
          </p:nvSpPr>
          <p:spPr>
            <a:xfrm>
              <a:off x="3726360" y="3079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Rectangle 107"/>
          <p:cNvSpPr/>
          <p:nvPr/>
        </p:nvSpPr>
        <p:spPr>
          <a:xfrm>
            <a:off x="3571920" y="283356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18"/>
          <p:cNvSpPr/>
          <p:nvPr/>
        </p:nvSpPr>
        <p:spPr>
          <a:xfrm>
            <a:off x="3516480" y="2982960"/>
            <a:ext cx="1332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20"/>
          <p:cNvSpPr/>
          <p:nvPr/>
        </p:nvSpPr>
        <p:spPr>
          <a:xfrm>
            <a:off x="1407960" y="2060640"/>
            <a:ext cx="4267440" cy="3730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rc 121"/>
          <p:cNvSpPr/>
          <p:nvPr/>
        </p:nvSpPr>
        <p:spPr>
          <a:xfrm flipV="1" rot="10800000">
            <a:off x="3612960" y="2990880"/>
            <a:ext cx="2409480" cy="581040"/>
          </a:xfrm>
          <a:custGeom>
            <a:avLst/>
            <a:gdLst>
              <a:gd name="textAreaLeft" fmla="*/ 0 w 2409480"/>
              <a:gd name="textAreaRight" fmla="*/ 2409840 w 2409480"/>
              <a:gd name="textAreaTop" fmla="*/ 0 h 581040"/>
              <a:gd name="textAreaBottom" fmla="*/ 581040 h 5810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720" y="0"/>
            <a:ext cx="231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rc 3"/>
          <p:cNvSpPr/>
          <p:nvPr/>
        </p:nvSpPr>
        <p:spPr>
          <a:xfrm flipV="1">
            <a:off x="2830680" y="0"/>
            <a:ext cx="1469880" cy="3573360"/>
          </a:xfrm>
          <a:custGeom>
            <a:avLst/>
            <a:gdLst>
              <a:gd name="textAreaLeft" fmla="*/ 0 w 1469880"/>
              <a:gd name="textAreaRight" fmla="*/ 1470240 w 1469880"/>
              <a:gd name="textAreaTop" fmla="*/ 360 h 3573360"/>
              <a:gd name="textAreaBottom" fmla="*/ 3574080 h 3573360"/>
            </a:gdLst>
            <a:ahLst/>
            <a:rect l="textAreaLeft" t="textAreaTop" r="textAreaRight" b="textAreaBottom"/>
            <a:pathLst>
              <a:path fill="none" w="39886" h="21600">
                <a:moveTo>
                  <a:pt x="0" y="15286"/>
                </a:moveTo>
                <a:cubicBezTo>
                  <a:pt x="2776" y="6203"/>
                  <a:pt x="11159" y="-1"/>
                  <a:pt x="20657" y="0"/>
                </a:cubicBezTo>
                <a:cubicBezTo>
                  <a:pt x="28765" y="0"/>
                  <a:pt x="36191" y="4541"/>
                  <a:pt x="39885" y="11760"/>
                </a:cubicBezTo>
              </a:path>
              <a:path stroke="0" w="39886" h="21600">
                <a:moveTo>
                  <a:pt x="0" y="15286"/>
                </a:moveTo>
                <a:cubicBezTo>
                  <a:pt x="2776" y="6203"/>
                  <a:pt x="11159" y="-1"/>
                  <a:pt x="20657" y="0"/>
                </a:cubicBezTo>
                <a:cubicBezTo>
                  <a:pt x="28765" y="0"/>
                  <a:pt x="36191" y="4541"/>
                  <a:pt x="39885" y="11760"/>
                </a:cubicBezTo>
                <a:lnTo>
                  <a:pt x="20657" y="21600"/>
                </a:lnTo>
                <a:close/>
              </a:path>
            </a:pathLst>
          </a:custGeom>
          <a:noFill/>
          <a:ln w="316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rc 4"/>
          <p:cNvSpPr/>
          <p:nvPr/>
        </p:nvSpPr>
        <p:spPr>
          <a:xfrm flipV="1" rot="10800000">
            <a:off x="1118880" y="3607200"/>
            <a:ext cx="1469880" cy="3544920"/>
          </a:xfrm>
          <a:custGeom>
            <a:avLst/>
            <a:gdLst>
              <a:gd name="textAreaLeft" fmla="*/ 0 w 1469880"/>
              <a:gd name="textAreaRight" fmla="*/ 1470240 w 1469880"/>
              <a:gd name="textAreaTop" fmla="*/ -360 h 3544920"/>
              <a:gd name="textAreaBottom" fmla="*/ 3544920 h 3544920"/>
            </a:gdLst>
            <a:ahLst/>
            <a:rect l="textAreaLeft" t="textAreaTop" r="textAreaRight" b="textAreaBottom"/>
            <a:pathLst>
              <a:path fill="none" w="39886" h="21600">
                <a:moveTo>
                  <a:pt x="0" y="15286"/>
                </a:moveTo>
                <a:cubicBezTo>
                  <a:pt x="2776" y="6203"/>
                  <a:pt x="11159" y="-1"/>
                  <a:pt x="20657" y="0"/>
                </a:cubicBezTo>
                <a:cubicBezTo>
                  <a:pt x="28765" y="0"/>
                  <a:pt x="36191" y="4541"/>
                  <a:pt x="39885" y="11760"/>
                </a:cubicBezTo>
              </a:path>
              <a:path stroke="0" w="39886" h="21600">
                <a:moveTo>
                  <a:pt x="0" y="15286"/>
                </a:moveTo>
                <a:cubicBezTo>
                  <a:pt x="2776" y="6203"/>
                  <a:pt x="11159" y="-1"/>
                  <a:pt x="20657" y="0"/>
                </a:cubicBezTo>
                <a:cubicBezTo>
                  <a:pt x="28765" y="0"/>
                  <a:pt x="36191" y="4541"/>
                  <a:pt x="39885" y="11760"/>
                </a:cubicBezTo>
                <a:lnTo>
                  <a:pt x="20657" y="21600"/>
                </a:lnTo>
                <a:close/>
              </a:path>
            </a:pathLst>
          </a:custGeom>
          <a:noFill/>
          <a:ln w="316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3497400" y="2351160"/>
            <a:ext cx="1458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3654720" y="217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1738440" y="35607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2286000" y="356076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3506760" y="4192560"/>
            <a:ext cx="135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3683160" y="40165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1"/>
          <p:cNvSpPr/>
          <p:nvPr/>
        </p:nvSpPr>
        <p:spPr>
          <a:xfrm>
            <a:off x="4802040" y="3497400"/>
            <a:ext cx="11160" cy="1396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4086360" y="356544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6556320" y="1343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2262960" y="139680"/>
            <a:ext cx="514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ff"/>
                </a:solidFill>
                <a:uFillTx/>
                <a:latin typeface="Arial"/>
              </a:rPr>
              <a:t>Укажите знак коэффициента при х</a:t>
            </a:r>
            <a:r>
              <a:rPr b="1" lang="ru-RU" sz="2200" spc="-1" strike="noStrike" u="sng" baseline="30000">
                <a:solidFill>
                  <a:srgbClr val="0000ff"/>
                </a:solidFill>
                <a:uFillTx/>
                <a:latin typeface="Arial"/>
              </a:rPr>
              <a:t>2</a:t>
            </a:r>
            <a:r>
              <a:rPr b="1" lang="ru-RU" sz="2200" spc="-1" strike="noStrike" u="sng">
                <a:solidFill>
                  <a:srgbClr val="0000ff"/>
                </a:solidFill>
                <a:uFillTx/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6413400" y="1387440"/>
            <a:ext cx="336600" cy="327240"/>
          </a:xfrm>
          <a:prstGeom prst="cloudCallout">
            <a:avLst>
              <a:gd name="adj1" fmla="val -65092"/>
              <a:gd name="adj2" fmla="val 16213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6"/>
          <p:cNvSpPr/>
          <p:nvPr/>
        </p:nvSpPr>
        <p:spPr>
          <a:xfrm>
            <a:off x="1785960" y="3059280"/>
            <a:ext cx="336600" cy="326880"/>
          </a:xfrm>
          <a:prstGeom prst="cloudCallout">
            <a:avLst>
              <a:gd name="adj1" fmla="val -40564"/>
              <a:gd name="adj2" fmla="val 12232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3143160" y="1066680"/>
            <a:ext cx="336600" cy="327240"/>
          </a:xfrm>
          <a:prstGeom prst="cloudCallout">
            <a:avLst>
              <a:gd name="adj1" fmla="val -110379"/>
              <a:gd name="adj2" fmla="val 1514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8"/>
          <p:cNvSpPr/>
          <p:nvPr/>
        </p:nvSpPr>
        <p:spPr>
          <a:xfrm>
            <a:off x="4813200" y="3009960"/>
            <a:ext cx="336600" cy="326880"/>
          </a:xfrm>
          <a:prstGeom prst="cloudCallout">
            <a:avLst>
              <a:gd name="adj1" fmla="val -37736"/>
              <a:gd name="adj2" fmla="val -16262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6467400" y="1353960"/>
            <a:ext cx="2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4813200" y="2963880"/>
            <a:ext cx="2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3154320" y="1031760"/>
            <a:ext cx="2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2"/>
          <p:cNvSpPr/>
          <p:nvPr/>
        </p:nvSpPr>
        <p:spPr>
          <a:xfrm>
            <a:off x="1806480" y="3036960"/>
            <a:ext cx="2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3"/>
          <p:cNvSpPr/>
          <p:nvPr/>
        </p:nvSpPr>
        <p:spPr>
          <a:xfrm rot="16033200">
            <a:off x="5458680" y="4994640"/>
            <a:ext cx="430200" cy="377640"/>
          </a:xfrm>
          <a:prstGeom prst="cloudCallout">
            <a:avLst>
              <a:gd name="adj1" fmla="val 125865"/>
              <a:gd name="adj2" fmla="val -776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4"/>
          <p:cNvSpPr/>
          <p:nvPr/>
        </p:nvSpPr>
        <p:spPr>
          <a:xfrm>
            <a:off x="4191120" y="3484440"/>
            <a:ext cx="0" cy="128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5"/>
          <p:cNvSpPr/>
          <p:nvPr/>
        </p:nvSpPr>
        <p:spPr>
          <a:xfrm>
            <a:off x="4662720" y="358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rc 26"/>
          <p:cNvSpPr/>
          <p:nvPr/>
        </p:nvSpPr>
        <p:spPr>
          <a:xfrm>
            <a:off x="5430960" y="1015920"/>
            <a:ext cx="968400" cy="3573720"/>
          </a:xfrm>
          <a:custGeom>
            <a:avLst/>
            <a:gdLst>
              <a:gd name="textAreaLeft" fmla="*/ 0 w 968400"/>
              <a:gd name="textAreaRight" fmla="*/ 968760 w 968400"/>
              <a:gd name="textAreaTop" fmla="*/ 0 h 3573720"/>
              <a:gd name="textAreaBottom" fmla="*/ 3574080 h 3573720"/>
            </a:gdLst>
            <a:ahLst/>
            <a:rect l="textAreaLeft" t="textAreaTop" r="textAreaRight" b="textAreaBottom"/>
            <a:pathLst>
              <a:path fill="none" w="39886" h="21600">
                <a:moveTo>
                  <a:pt x="0" y="15286"/>
                </a:moveTo>
                <a:cubicBezTo>
                  <a:pt x="2776" y="6203"/>
                  <a:pt x="11159" y="-1"/>
                  <a:pt x="20657" y="0"/>
                </a:cubicBezTo>
                <a:cubicBezTo>
                  <a:pt x="28765" y="0"/>
                  <a:pt x="36191" y="4541"/>
                  <a:pt x="39885" y="11760"/>
                </a:cubicBezTo>
              </a:path>
              <a:path stroke="0" w="39886" h="21600">
                <a:moveTo>
                  <a:pt x="0" y="15286"/>
                </a:moveTo>
                <a:cubicBezTo>
                  <a:pt x="2776" y="6203"/>
                  <a:pt x="11159" y="-1"/>
                  <a:pt x="20657" y="0"/>
                </a:cubicBezTo>
                <a:cubicBezTo>
                  <a:pt x="28765" y="0"/>
                  <a:pt x="36191" y="4541"/>
                  <a:pt x="39885" y="11760"/>
                </a:cubicBezTo>
                <a:lnTo>
                  <a:pt x="20657" y="21600"/>
                </a:lnTo>
                <a:close/>
              </a:path>
            </a:pathLst>
          </a:custGeom>
          <a:noFill/>
          <a:ln w="316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rc 28"/>
          <p:cNvSpPr/>
          <p:nvPr/>
        </p:nvSpPr>
        <p:spPr>
          <a:xfrm flipV="1">
            <a:off x="2077920" y="637200"/>
            <a:ext cx="2841840" cy="3544920"/>
          </a:xfrm>
          <a:custGeom>
            <a:avLst/>
            <a:gdLst>
              <a:gd name="textAreaLeft" fmla="*/ 0 w 2841840"/>
              <a:gd name="textAreaRight" fmla="*/ 2842200 w 2841840"/>
              <a:gd name="textAreaTop" fmla="*/ -360 h 3544920"/>
              <a:gd name="textAreaBottom" fmla="*/ 3544920 h 3544920"/>
            </a:gdLst>
            <a:ahLst/>
            <a:rect l="textAreaLeft" t="textAreaTop" r="textAreaRight" b="textAreaBottom"/>
            <a:pathLst>
              <a:path fill="none" w="39886" h="21600">
                <a:moveTo>
                  <a:pt x="0" y="15286"/>
                </a:moveTo>
                <a:cubicBezTo>
                  <a:pt x="2776" y="6203"/>
                  <a:pt x="11159" y="-1"/>
                  <a:pt x="20657" y="0"/>
                </a:cubicBezTo>
                <a:cubicBezTo>
                  <a:pt x="28765" y="0"/>
                  <a:pt x="36191" y="4541"/>
                  <a:pt x="39885" y="11760"/>
                </a:cubicBezTo>
              </a:path>
              <a:path stroke="0" w="39886" h="21600">
                <a:moveTo>
                  <a:pt x="0" y="15286"/>
                </a:moveTo>
                <a:cubicBezTo>
                  <a:pt x="2776" y="6203"/>
                  <a:pt x="11159" y="-1"/>
                  <a:pt x="20657" y="0"/>
                </a:cubicBezTo>
                <a:cubicBezTo>
                  <a:pt x="28765" y="0"/>
                  <a:pt x="36191" y="4541"/>
                  <a:pt x="39885" y="11760"/>
                </a:cubicBezTo>
                <a:lnTo>
                  <a:pt x="20657" y="21600"/>
                </a:lnTo>
                <a:close/>
              </a:path>
            </a:pathLst>
          </a:custGeom>
          <a:noFill/>
          <a:ln w="316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29"/>
          <p:cNvGrpSpPr/>
          <p:nvPr/>
        </p:nvGrpSpPr>
        <p:grpSpPr>
          <a:xfrm>
            <a:off x="268200" y="415800"/>
            <a:ext cx="6480360" cy="5903640"/>
            <a:chOff x="268200" y="415800"/>
            <a:chExt cx="6480360" cy="5903640"/>
          </a:xfrm>
        </p:grpSpPr>
        <p:sp>
          <p:nvSpPr>
            <p:cNvPr id="155" name="Line 30"/>
            <p:cNvSpPr/>
            <p:nvPr/>
          </p:nvSpPr>
          <p:spPr>
            <a:xfrm flipV="1">
              <a:off x="3579840" y="487080"/>
              <a:ext cx="0" cy="58323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31"/>
            <p:cNvSpPr/>
            <p:nvPr/>
          </p:nvSpPr>
          <p:spPr>
            <a:xfrm>
              <a:off x="268200" y="3584520"/>
              <a:ext cx="648036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32"/>
            <p:cNvSpPr/>
            <p:nvPr/>
          </p:nvSpPr>
          <p:spPr>
            <a:xfrm>
              <a:off x="6389640" y="36561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33"/>
            <p:cNvSpPr/>
            <p:nvPr/>
          </p:nvSpPr>
          <p:spPr>
            <a:xfrm>
              <a:off x="3654360" y="415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34"/>
            <p:cNvSpPr/>
            <p:nvPr/>
          </p:nvSpPr>
          <p:spPr>
            <a:xfrm>
              <a:off x="3149280" y="35845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35"/>
            <p:cNvSpPr/>
            <p:nvPr/>
          </p:nvSpPr>
          <p:spPr>
            <a:xfrm>
              <a:off x="3868920" y="3511440"/>
              <a:ext cx="0" cy="14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36"/>
            <p:cNvSpPr/>
            <p:nvPr/>
          </p:nvSpPr>
          <p:spPr>
            <a:xfrm flipH="1">
              <a:off x="3508560" y="3295800"/>
              <a:ext cx="14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37"/>
            <p:cNvSpPr/>
            <p:nvPr/>
          </p:nvSpPr>
          <p:spPr>
            <a:xfrm>
              <a:off x="3726360" y="3727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38"/>
            <p:cNvSpPr/>
            <p:nvPr/>
          </p:nvSpPr>
          <p:spPr>
            <a:xfrm>
              <a:off x="3726360" y="3079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39"/>
          <p:cNvSpPr/>
          <p:nvPr/>
        </p:nvSpPr>
        <p:spPr>
          <a:xfrm>
            <a:off x="3571920" y="283356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40"/>
          <p:cNvSpPr/>
          <p:nvPr/>
        </p:nvSpPr>
        <p:spPr>
          <a:xfrm>
            <a:off x="3516480" y="2982960"/>
            <a:ext cx="1332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rc 41"/>
          <p:cNvSpPr/>
          <p:nvPr/>
        </p:nvSpPr>
        <p:spPr>
          <a:xfrm flipV="1">
            <a:off x="4124160" y="1899360"/>
            <a:ext cx="1392480" cy="3544920"/>
          </a:xfrm>
          <a:custGeom>
            <a:avLst/>
            <a:gdLst>
              <a:gd name="textAreaLeft" fmla="*/ 0 w 1392480"/>
              <a:gd name="textAreaRight" fmla="*/ 1392840 w 1392480"/>
              <a:gd name="textAreaTop" fmla="*/ -360 h 3544920"/>
              <a:gd name="textAreaBottom" fmla="*/ 3544920 h 3544920"/>
            </a:gdLst>
            <a:ahLst/>
            <a:rect l="textAreaLeft" t="textAreaTop" r="textAreaRight" b="textAreaBottom"/>
            <a:pathLst>
              <a:path fill="none" w="37774" h="21600">
                <a:moveTo>
                  <a:pt x="0" y="10525"/>
                </a:moveTo>
                <a:cubicBezTo>
                  <a:pt x="3898" y="3997"/>
                  <a:pt x="10941" y="-1"/>
                  <a:pt x="18545" y="0"/>
                </a:cubicBezTo>
                <a:cubicBezTo>
                  <a:pt x="26653" y="0"/>
                  <a:pt x="34079" y="4541"/>
                  <a:pt x="37773" y="11760"/>
                </a:cubicBezTo>
              </a:path>
              <a:path stroke="0" w="37774" h="21600">
                <a:moveTo>
                  <a:pt x="0" y="10525"/>
                </a:moveTo>
                <a:cubicBezTo>
                  <a:pt x="3898" y="3997"/>
                  <a:pt x="10941" y="-1"/>
                  <a:pt x="18545" y="0"/>
                </a:cubicBezTo>
                <a:cubicBezTo>
                  <a:pt x="26653" y="0"/>
                  <a:pt x="34079" y="4541"/>
                  <a:pt x="37773" y="11760"/>
                </a:cubicBezTo>
                <a:lnTo>
                  <a:pt x="18545" y="21600"/>
                </a:lnTo>
                <a:close/>
              </a:path>
            </a:pathLst>
          </a:custGeom>
          <a:noFill/>
          <a:ln w="3168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1"/>
          <p:cNvSpPr/>
          <p:nvPr/>
        </p:nvSpPr>
        <p:spPr>
          <a:xfrm>
            <a:off x="885960" y="619200"/>
            <a:ext cx="748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ff"/>
                </a:solidFill>
                <a:uFillTx/>
                <a:latin typeface="Arial"/>
              </a:rPr>
              <a:t>Являются ли данные функции квадратичным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1687680" y="1541520"/>
            <a:ext cx="17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2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5293440" y="14716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-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4"/>
          <p:cNvSpPr/>
          <p:nvPr/>
        </p:nvSpPr>
        <p:spPr>
          <a:xfrm>
            <a:off x="1661400" y="2301840"/>
            <a:ext cx="20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-3(х + 1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5"/>
          <p:cNvSpPr/>
          <p:nvPr/>
        </p:nvSpPr>
        <p:spPr>
          <a:xfrm>
            <a:off x="5195160" y="228744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(х - 2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6"/>
          <p:cNvSpPr/>
          <p:nvPr/>
        </p:nvSpPr>
        <p:spPr>
          <a:xfrm>
            <a:off x="3288960" y="314640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= (х + 1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7"/>
          <p:cNvSpPr/>
          <p:nvPr/>
        </p:nvSpPr>
        <p:spPr>
          <a:xfrm>
            <a:off x="2271600" y="4230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о квадратичные функции, заданные формулой в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8"/>
          <p:cNvSpPr/>
          <p:nvPr/>
        </p:nvSpPr>
        <p:spPr>
          <a:xfrm>
            <a:off x="3160440" y="5256360"/>
            <a:ext cx="27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у =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(х -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1041480" y="885960"/>
          <a:ext cx="7188120" cy="4965480"/>
        </p:xfrm>
        <a:graphic>
          <a:graphicData uri="http://schemas.openxmlformats.org/drawingml/2006/table">
            <a:tbl>
              <a:tblPr/>
              <a:tblGrid>
                <a:gridCol w="2627280"/>
                <a:gridCol w="4560840"/>
              </a:tblGrid>
              <a:tr h="1241280">
                <a:tc>
                  <a:txBody>
                    <a:bodyPr lIns="61560" rIns="615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фун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еобраз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1280">
                <a:tc>
                  <a:txBody>
                    <a:bodyPr lIns="61560" rIns="615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 = -x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1640">
                <a:tc>
                  <a:txBody>
                    <a:bodyPr lIns="61560" rIns="615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 = x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+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1280">
                <a:tc>
                  <a:txBody>
                    <a:bodyPr lIns="61560" rIns="615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 =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m)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5"/>
          <p:cNvSpPr/>
          <p:nvPr/>
        </p:nvSpPr>
        <p:spPr>
          <a:xfrm>
            <a:off x="800280" y="2013120"/>
            <a:ext cx="737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Построение графиков функций у=х</a:t>
            </a:r>
            <a:r>
              <a:rPr b="1" i="1" lang="ru-RU" sz="40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 и у=-х</a:t>
            </a:r>
            <a:r>
              <a:rPr b="1" i="1" lang="ru-RU" sz="40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6" descr="MCj03975260000[1]"/>
          <p:cNvPicPr/>
          <p:nvPr/>
        </p:nvPicPr>
        <p:blipFill>
          <a:blip r:embed="rId1"/>
          <a:stretch/>
        </p:blipFill>
        <p:spPr>
          <a:xfrm>
            <a:off x="5830920" y="3925800"/>
            <a:ext cx="3313080" cy="2932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MCj03967440000[1]"/>
          <p:cNvPicPr/>
          <p:nvPr/>
        </p:nvPicPr>
        <p:blipFill>
          <a:blip r:embed="rId2"/>
          <a:stretch/>
        </p:blipFill>
        <p:spPr>
          <a:xfrm>
            <a:off x="184320" y="4032360"/>
            <a:ext cx="2300040" cy="28256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2"/>
          <p:cNvSpPr/>
          <p:nvPr/>
        </p:nvSpPr>
        <p:spPr>
          <a:xfrm>
            <a:off x="2354400" y="25416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ройте  в одной координатной  плоск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рафики функц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25"/>
              <p:cNvSpPr txBox="1"/>
              <p:nvPr/>
            </p:nvSpPr>
            <p:spPr>
              <a:xfrm>
                <a:off x="674640" y="1792440"/>
                <a:ext cx="1216080" cy="16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1" name="Text Box 26"/>
          <p:cNvSpPr/>
          <p:nvPr/>
        </p:nvSpPr>
        <p:spPr>
          <a:xfrm>
            <a:off x="2701080" y="2666880"/>
            <a:ext cx="45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промежутк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4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 шагом 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0"/>
          <p:cNvSpPr/>
          <p:nvPr/>
        </p:nvSpPr>
        <p:spPr>
          <a:xfrm>
            <a:off x="11160" y="71280"/>
            <a:ext cx="231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Задание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19:48:38Z</dcterms:created>
  <dc:creator>Кузнецова</dc:creator>
  <dc:description/>
  <dc:language>en-US</dc:language>
  <cp:lastModifiedBy>Елена</cp:lastModifiedBy>
  <dcterms:modified xsi:type="dcterms:W3CDTF">2015-03-13T13:25:58Z</dcterms:modified>
  <cp:revision>5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641049</vt:lpwstr>
  </property>
</Properties>
</file>